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EF17-3DF1-42FE-AAD2-C25265444E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st learn about habit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st learn about habit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y area ,San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d areas,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r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st, on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qu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rest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bo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tural home or environment of an animal  or a  pl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y area ,San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d areas,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r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st, on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qu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rest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bo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tural home or environment of an animal  or a  pl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learn about adapta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learn about adapta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ations are body features and habits that enable a living thing to live comfortably in its natural surroundings (habita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the basic adaptations that help creatures survi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pe of a bird's beak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finger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ur of the fu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ickness or thinness of the fu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hape of the nose or 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ations are body features and habits that enable a living thing to live comfortably in its natural surroundings (habita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the basic adaptations that help creatures survi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pe of a bird's beak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finger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ur of the fu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ickness or thinness of the fu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hape of the nose or 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Eyelas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toring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dded Fe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p Sinking into the s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protect from ground-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top the s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tering the e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l –Lives in Des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Eyelas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toring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dded Fe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p Sinking into the s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protect from ground-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top the s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tering the e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l –Lives in Des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arms and le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elp them sw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a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m to swing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e their bodies. It al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m to pick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ke differ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s to locate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t each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arms and le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elp them sw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a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m to swing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e their bodies. It al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m to pick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ke differ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s to locate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t each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gen is absorb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 comes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special gills to take oxygen from water for res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gen is absorb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 comes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special gills to take oxygen from water for res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leph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ar B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 B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A1D1-2D08-49BD-8DB1-8DA29D22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6596-8155-42B2-95CD-80075537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82F4-82E3-4F6B-833C-99FB2FB5C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71E4-7F7C-4E17-A825-0C82DF7A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DD09-4D06-41B3-9C0E-BAD0014F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A1BB-FAC2-4138-AB72-8EF9B7EF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246E-AA1F-4C67-941E-3D5D0DAE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4EA6-3568-431B-B7FB-8A6F790E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5998-6B72-4AA5-850A-4F30444B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8B8D-DC25-40C1-AD62-6FCEF438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6A89-B775-4D2E-A140-1560F3C4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A894-427A-4635-8880-27052BE3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3721-6527-4B14-A02C-8481B8A27E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901F-7663-4A35-9C14-59F73024D7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LEARN ABOUT </a:t>
            </a: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HABITA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722600" y="555480"/>
            <a:ext cx="1674720" cy="2143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6858000" y="571680"/>
            <a:ext cx="1914480" cy="174780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152280" y="27226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1773360" y="289548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ry area ,San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5353560" y="289548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ld areas, Po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7456680" y="276696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On tre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3692520" y="684360"/>
            <a:ext cx="1486080" cy="2009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4"/>
          <a:stretch/>
        </p:blipFill>
        <p:spPr>
          <a:xfrm>
            <a:off x="5105520" y="861840"/>
            <a:ext cx="1752480" cy="1905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5"/>
          <a:stretch/>
        </p:blipFill>
        <p:spPr>
          <a:xfrm>
            <a:off x="-30240" y="555480"/>
            <a:ext cx="1752840" cy="2143440"/>
          </a:xfrm>
          <a:prstGeom prst="rect">
            <a:avLst/>
          </a:prstGeom>
          <a:ln w="0">
            <a:noFill/>
          </a:ln>
        </p:spPr>
      </p:pic>
      <p:sp>
        <p:nvSpPr>
          <p:cNvPr id="59" name="TextBox 14"/>
          <p:cNvSpPr/>
          <p:nvPr/>
        </p:nvSpPr>
        <p:spPr>
          <a:xfrm>
            <a:off x="3624840" y="290664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orest, on 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308880" y="39625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quat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2212920" y="396252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eser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4030560" y="396252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errest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5983200" y="39625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ol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1"/>
          <p:cNvSpPr/>
          <p:nvPr/>
        </p:nvSpPr>
        <p:spPr>
          <a:xfrm>
            <a:off x="7818480" y="397368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rbore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1366920" y="5391000"/>
            <a:ext cx="6080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Habitat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 natural home or environment of an animal  or a  pla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-30240" y="22320"/>
            <a:ext cx="9097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Calibri"/>
                <a:ea typeface="Arial"/>
              </a:rPr>
              <a:t>What is a Habita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Нижний колонтитул 1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OW LEARN ABOUT </a:t>
            </a: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ADAPTA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a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aptations are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body featur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and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habit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that enable a living thing to live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omfortab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in its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natural surrounding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habita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xamples of the basic adaptations that help creatures surviv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ape of a bird's beak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number of finger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lour of the fur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thickness or thinness of the fur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hape of the nose or e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81080" y="1000080"/>
            <a:ext cx="2190600" cy="2190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3005280" y="1407960"/>
            <a:ext cx="2828880" cy="361980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722880" y="342108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wo Eyelash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6178320" y="1819440"/>
            <a:ext cx="192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um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or storing f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6576840" y="4343400"/>
            <a:ext cx="2559240" cy="2370240"/>
          </a:xfrm>
          <a:prstGeom prst="rect">
            <a:avLst/>
          </a:prstGeom>
          <a:ln w="0">
            <a:noFill/>
          </a:ln>
        </p:spPr>
      </p:pic>
      <p:sp>
        <p:nvSpPr>
          <p:cNvPr id="78" name="TextBox 5"/>
          <p:cNvSpPr/>
          <p:nvPr/>
        </p:nvSpPr>
        <p:spPr>
          <a:xfrm>
            <a:off x="3562560" y="5527800"/>
            <a:ext cx="30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added Fee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top Sinking into the s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nd protect from ground-he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Straight Arrow Connector 7"/>
          <p:cNvCxnSpPr/>
          <p:nvPr/>
        </p:nvCxnSpPr>
        <p:spPr>
          <a:xfrm>
            <a:off x="2133360" y="2743200"/>
            <a:ext cx="1291320" cy="24048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Straight Arrow Connector 12"/>
          <p:cNvCxnSpPr/>
          <p:nvPr/>
        </p:nvCxnSpPr>
        <p:spPr>
          <a:xfrm flipV="1">
            <a:off x="1275840" y="3006360"/>
            <a:ext cx="1080" cy="488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Straight Arrow Connector 16"/>
          <p:cNvCxnSpPr/>
          <p:nvPr/>
        </p:nvCxnSpPr>
        <p:spPr>
          <a:xfrm flipH="1" flipV="1">
            <a:off x="5409360" y="1726560"/>
            <a:ext cx="762840" cy="369000"/>
          </a:xfrm>
          <a:prstGeom prst="straightConnector1">
            <a:avLst/>
          </a:prstGeom>
          <a:ln w="4140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2" name="Straight Arrow Connector 17"/>
          <p:cNvCxnSpPr/>
          <p:nvPr/>
        </p:nvCxnSpPr>
        <p:spPr>
          <a:xfrm flipV="1">
            <a:off x="4856040" y="4952160"/>
            <a:ext cx="210240" cy="57564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3" name="Straight Arrow Connector 20"/>
          <p:cNvCxnSpPr/>
          <p:nvPr/>
        </p:nvCxnSpPr>
        <p:spPr>
          <a:xfrm>
            <a:off x="5218200" y="4952520"/>
            <a:ext cx="1488240" cy="7563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84" name="TextBox 24"/>
          <p:cNvSpPr/>
          <p:nvPr/>
        </p:nvSpPr>
        <p:spPr>
          <a:xfrm>
            <a:off x="539640" y="403848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stop the s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ntering the ey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4"/>
          <p:cNvSpPr/>
          <p:nvPr/>
        </p:nvSpPr>
        <p:spPr>
          <a:xfrm>
            <a:off x="61920" y="76320"/>
            <a:ext cx="91440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Camel –Lives in Deser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ижний колонтитул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4419360" cy="4803480"/>
          </a:xfrm>
          <a:prstGeom prst="rect">
            <a:avLst/>
          </a:prstGeom>
          <a:ln w="0">
            <a:noFill/>
          </a:ln>
        </p:spPr>
      </p:pic>
      <p:cxnSp>
        <p:nvCxnSpPr>
          <p:cNvPr id="88" name="Straight Arrow Connector 4"/>
          <p:cNvCxnSpPr/>
          <p:nvPr/>
        </p:nvCxnSpPr>
        <p:spPr>
          <a:xfrm flipV="1">
            <a:off x="1447920" y="5355360"/>
            <a:ext cx="1087920" cy="74052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9" name="Straight Arrow Connector 5"/>
          <p:cNvCxnSpPr/>
          <p:nvPr/>
        </p:nvCxnSpPr>
        <p:spPr>
          <a:xfrm flipV="1">
            <a:off x="1676520" y="5344560"/>
            <a:ext cx="2015280" cy="9039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0" name="TextBox 6"/>
          <p:cNvSpPr/>
          <p:nvPr/>
        </p:nvSpPr>
        <p:spPr>
          <a:xfrm>
            <a:off x="626760" y="6248520"/>
            <a:ext cx="264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ong arms and leg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help them sw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6111720" y="2514600"/>
            <a:ext cx="2733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 t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elps them to swing 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alance their bodies. It als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elps them to pick f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Straight Arrow Connector 9"/>
          <p:cNvCxnSpPr/>
          <p:nvPr/>
        </p:nvCxnSpPr>
        <p:spPr>
          <a:xfrm flipH="1">
            <a:off x="4571280" y="2742840"/>
            <a:ext cx="1586520" cy="9723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3" name="Straight Arrow Connector 12"/>
          <p:cNvCxnSpPr/>
          <p:nvPr/>
        </p:nvCxnSpPr>
        <p:spPr>
          <a:xfrm>
            <a:off x="1066320" y="3962160"/>
            <a:ext cx="2194920" cy="108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4" name="TextBox 13"/>
          <p:cNvSpPr/>
          <p:nvPr/>
        </p:nvSpPr>
        <p:spPr>
          <a:xfrm>
            <a:off x="0" y="3122640"/>
            <a:ext cx="216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y make differ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ounds to locate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reet each 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14400" y="0"/>
            <a:ext cx="91440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Monke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ижний колонтитул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523880" y="1657440"/>
            <a:ext cx="4996080" cy="354312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2519280" y="1295280"/>
            <a:ext cx="203544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Oxygen is absorb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9" name="Straight Arrow Connector 8"/>
          <p:cNvCxnSpPr/>
          <p:nvPr/>
        </p:nvCxnSpPr>
        <p:spPr>
          <a:xfrm>
            <a:off x="3335040" y="1581120"/>
            <a:ext cx="856440" cy="154368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9"/>
          <p:cNvSpPr/>
          <p:nvPr/>
        </p:nvSpPr>
        <p:spPr>
          <a:xfrm>
            <a:off x="6424560" y="4822920"/>
            <a:ext cx="265572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Carbon dioxide comes o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1" name="Straight Arrow Connector 12"/>
          <p:cNvCxnSpPr/>
          <p:nvPr/>
        </p:nvCxnSpPr>
        <p:spPr>
          <a:xfrm flipH="1" flipV="1">
            <a:off x="4876560" y="3885840"/>
            <a:ext cx="1542240" cy="129600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TextBox 1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Fish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1910160" y="5446800"/>
            <a:ext cx="564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ave special gills to take oxygen from water for respi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ижний колонтитул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ph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52280" y="1147680"/>
            <a:ext cx="8839440" cy="5666040"/>
          </a:xfrm>
          <a:prstGeom prst="rect">
            <a:avLst/>
          </a:prstGeom>
          <a:ln w="0">
            <a:noFill/>
          </a:ln>
        </p:spPr>
      </p:pic>
      <p:sp>
        <p:nvSpPr>
          <p:cNvPr id="108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www.exploringnature.org/graphics/adaptation_jpgs/polar%20bear.jpg"/>
          <p:cNvPicPr/>
          <p:nvPr/>
        </p:nvPicPr>
        <p:blipFill>
          <a:blip r:embed="rId1"/>
          <a:stretch/>
        </p:blipFill>
        <p:spPr>
          <a:xfrm>
            <a:off x="0" y="1143000"/>
            <a:ext cx="9067680" cy="50292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lar Be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6T00:47:27Z</dcterms:created>
  <dc:creator>makemegenius</dc:creator>
  <dc:description/>
  <dc:language>en-US</dc:language>
  <cp:lastModifiedBy>LEGION</cp:lastModifiedBy>
  <dcterms:modified xsi:type="dcterms:W3CDTF">2018-03-12T07:40:07Z</dcterms:modified>
  <cp:revision>30</cp:revision>
  <dc:subject/>
  <dc:title>PowerPoint Presentation</dc:title>
</cp:coreProperties>
</file>